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34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578;&#1585;&#1576;&#1740;&#1578;.ppt" TargetMode="External"/><Relationship Id="rId2" Type="http://schemas.openxmlformats.org/officeDocument/2006/relationships/hyperlink" Target="file:///&#1578;&#1585;&#1576;&#1740;&#1578;%20&#1576;&#1583;&#1606;&#1740;.ppt" TargetMode="External"/><Relationship Id="rId3" Type="http://schemas.openxmlformats.org/officeDocument/2006/relationships/hyperlink" Target="file:///&#1608;&#1585;&#1586;&#1588;.ppt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2411280" y="285840"/>
            <a:ext cx="389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ffff"/>
                </a:solidFill>
                <a:latin typeface="Times New Roman"/>
                <a:cs typeface="B Nazanin"/>
              </a:rPr>
              <a:t>با نام و یاد خ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708360" y="311040"/>
            <a:ext cx="64818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ffff"/>
                </a:solidFill>
                <a:latin typeface="Times New Roman"/>
                <a:cs typeface="B Nazanin"/>
              </a:rPr>
              <a:t>اصول 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ffff"/>
                </a:solidFill>
                <a:latin typeface="Times New Roman"/>
                <a:ea typeface="B Nazanin"/>
              </a:rPr>
              <a:t> مبانی تربیت بدن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139760" y="1916280"/>
            <a:ext cx="35607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488960" y="144360"/>
            <a:ext cx="728676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مراحل رشد از دیدگاه پیاژ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826920" y="2349360"/>
            <a:ext cx="767412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مرحله حسی - حرکت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مرحله پیش حرکت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مرحله عملکردی عی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مرحله عملکردی صور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488960" y="144360"/>
            <a:ext cx="728676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تقسیم بندی بازی از نظر پیاژ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826920" y="2565360"/>
            <a:ext cx="76741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تمری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نمادی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سازمان یاف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انواع باز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003640" y="2565360"/>
            <a:ext cx="34974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جسم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تقلید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نمایش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نمادی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1225440" y="2567160"/>
            <a:ext cx="349740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تخیل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سازمان یاف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ازی های آموزش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تفریحات سال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26920" y="2565360"/>
            <a:ext cx="767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فعالیت های مفیدی هستند که به منظور پر کردن اوقات فراغت انجام می گیرند. در این گونه فعالیت ها مقررات سخت و دست و پاگیر وجود ندار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281240" y="-54000"/>
            <a:ext cx="75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موضوع اصلی اصول و مبانی تربیت بدنی چیست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932360" y="2797200"/>
            <a:ext cx="356868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فیزیولوژی ورزش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طب ورزش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بیومکانی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حرکت شناس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حرکات اصلاح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623880" y="2832120"/>
            <a:ext cx="35686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تاریخ تربیت بد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روانشناسی ورزش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یادگیری حرکت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رشد و تکامل حرکت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اهداف در تربیت بدن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85840" y="2060640"/>
            <a:ext cx="767376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جسما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عاطف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اجتماع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اخلاق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مهارت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اهداف جسمان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506520" y="1960560"/>
            <a:ext cx="767376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کسب آمادگی جسما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کسب سلامت جسما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رشد تکامل اندام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حرکات اصلاح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تربیت بدنی تطبیق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1112760" y="2259000"/>
            <a:ext cx="345924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کسب آمادگی جسمان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755640" y="1700280"/>
            <a:ext cx="767412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عوامل آمادگی جسمان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استقامت قلبی عروق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قدرت عضلا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استقامت عضلا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انعطاف پذیر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ترکیب بد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کسب آمادگی جسمان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755640" y="1700280"/>
            <a:ext cx="767412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عوامل آمادگی جسمان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چابک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سرع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زمان واکن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توان عضلا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تعاد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050920" y="242100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000000"/>
                </a:solidFill>
                <a:latin typeface="Times New Roman"/>
                <a:cs typeface="B Titr"/>
              </a:rPr>
              <a:t>با تشکر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172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موضو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19120" y="2492280"/>
            <a:ext cx="76723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تاریخچه ورزش و تربیت بد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مفاهی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اهداف تربیت بد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101600" cy="743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1258920" y="43052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488960" y="144360"/>
            <a:ext cx="728676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تاریخچه ورزش و تربیت بدن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44440" y="2195640"/>
            <a:ext cx="767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مهم ترین گزینه انسان های اولیه برای ادامه زندگی پرورش قدرت و توانایی های بدن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بوده اس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1258920" y="4002120"/>
            <a:ext cx="4032360" cy="25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مفاهی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95200" y="1860480"/>
            <a:ext cx="76741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 u="sng">
                <a:solidFill>
                  <a:srgbClr val="7b00e4"/>
                </a:solidFill>
                <a:uFillTx/>
                <a:latin typeface="Times New Roman"/>
                <a:ea typeface="B Mitra"/>
                <a:hlinkClick r:id="rId1"/>
              </a:rPr>
              <a:t>-</a:t>
            </a:r>
            <a:r>
              <a:rPr b="0" lang="fa-IR" sz="4400" spc="-1" strike="noStrike">
                <a:solidFill>
                  <a:srgbClr val="ffffff"/>
                </a:solidFill>
                <a:latin typeface="Times New Roman"/>
                <a:ea typeface="B Mitra"/>
              </a:rPr>
              <a:t> تربی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 u="sng">
                <a:solidFill>
                  <a:srgbClr val="7b00e4"/>
                </a:solidFill>
                <a:uFillTx/>
                <a:latin typeface="Times New Roman"/>
                <a:ea typeface="B Mitra"/>
                <a:hlinkClick r:id="rId2"/>
              </a:rPr>
              <a:t>-</a:t>
            </a:r>
            <a:r>
              <a:rPr b="0" lang="fa-IR" sz="4400" spc="-1" strike="noStrike">
                <a:solidFill>
                  <a:srgbClr val="ffffff"/>
                </a:solidFill>
                <a:latin typeface="Times New Roman"/>
                <a:ea typeface="B Mitra"/>
              </a:rPr>
              <a:t> تربیت بدن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 u="sng">
                <a:solidFill>
                  <a:srgbClr val="7b00e4"/>
                </a:solidFill>
                <a:uFillTx/>
                <a:latin typeface="Times New Roman"/>
                <a:ea typeface="B Mitra"/>
                <a:hlinkClick r:id="rId3"/>
              </a:rPr>
              <a:t>-</a:t>
            </a:r>
            <a:r>
              <a:rPr b="0" lang="fa-IR" sz="4400" spc="-1" strike="noStrike">
                <a:solidFill>
                  <a:srgbClr val="ffffff"/>
                </a:solidFill>
                <a:latin typeface="Times New Roman"/>
                <a:ea typeface="B Mitra"/>
              </a:rPr>
              <a:t> ورز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0000"/>
                </a:solidFill>
                <a:latin typeface="Times New Roman"/>
                <a:ea typeface="B Mitra"/>
              </a:rPr>
              <a:t>-</a:t>
            </a:r>
            <a:r>
              <a:rPr b="0" lang="fa-IR" sz="4400" spc="-1" strike="noStrike">
                <a:solidFill>
                  <a:srgbClr val="ffffff"/>
                </a:solidFill>
                <a:latin typeface="Times New Roman"/>
                <a:ea typeface="B Mitra"/>
              </a:rPr>
              <a:t> باز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5"/>
          <a:stretch/>
        </p:blipFill>
        <p:spPr>
          <a:xfrm>
            <a:off x="1258920" y="2573280"/>
            <a:ext cx="358596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تربی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057320" y="2130480"/>
            <a:ext cx="76737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هدایت فرد از آنچه هست، به آنچه باید باش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ژان ژاک روسو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علمی که می تواند فرد را در دایره استعدادهای فطریش پرورش ده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تربیت بدن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114560" y="1960560"/>
            <a:ext cx="767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بخش مهمی از تعلیم و تربیت که از طریق حرکت، جریان رشد و تکامل را در همه ابعاد وجود انسان (جسمانی و روانی) تسهیل نموده و به رشد و شکوفایی استعدادهای فرد کمک می کن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>
            <a:off x="1332000" y="4268880"/>
            <a:ext cx="3797280" cy="23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ورز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62160" y="2205000"/>
            <a:ext cx="767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به مجموعه ای از فعالیت های سازمان یافته اطلاق می شود که به منظور کسب مهارت، افزایش قابلیت ها و ایجاد رقابت های بدنی انجام می شو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1262160" y="4000680"/>
            <a:ext cx="350676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ویژگی های ورز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826920" y="2797200"/>
            <a:ext cx="76741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یادگیری مها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ایجاد رقاب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ea typeface="B Mitra"/>
              </a:rPr>
              <a:t>- وجود ضوابط و قواعد مشخص منطقه ای یا جهان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488960" y="1443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Times New Roman"/>
                <a:cs typeface="B Titr"/>
              </a:rPr>
              <a:t>باز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88360" y="639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133640" y="2276640"/>
            <a:ext cx="76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  <a:cs typeface="B Mitra"/>
              </a:rPr>
              <a:t>فعالیتی اختیاری و ارادی، تغییر پذیر که از مقررات خاصی تبعیت می کن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006560" y="2205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0" y="-7920"/>
            <a:ext cx="1101600" cy="74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1455840" y="3529080"/>
            <a:ext cx="3844800" cy="24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5:43:26Z</dcterms:created>
  <dc:creator>Travis Fleming</dc:creator>
  <dc:description/>
  <cp:keywords/>
  <dc:language>en-US</dc:language>
  <cp:lastModifiedBy>Asus</cp:lastModifiedBy>
  <dcterms:modified xsi:type="dcterms:W3CDTF">2020-03-03T21:36:11Z</dcterms:modified>
  <cp:revision>348</cp:revision>
  <dc:subject/>
  <dc:title>Heart Disease- The Silent Killer</dc:title>
</cp:coreProperties>
</file>